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027-6C7F-4612-8B0B-B545AC66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D7A-2053-41BA-8ED1-AF4D7F9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9EB-ED17-4CB7-B7CE-0092B4BD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0D8-D5E6-44AF-8A52-BFE73494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448A-DF26-481D-9B03-E5C750DE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32E7-95EB-4A12-B17D-BCFE7CE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C4F-9F35-4C9B-B12F-352DBE85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9FF-C806-4DD0-B955-E7B8479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D0E6-3FAD-4C21-9C63-99F2FA7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97D-1EE5-4259-A897-885DA16E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FDD-4611-499F-8A18-0BEA4A2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D57-3C6B-488F-A590-469FE75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B46-022B-4E18-BB9E-1ED69CC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507E-3ED5-4C8C-A4BD-16DA5A4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FE58-3C4B-4F72-8D68-9E9F837E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C558-74F1-4D9A-995E-5E40313D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C31-C08D-4108-8539-FE51450B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A92-6D3C-4864-A062-68436AD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E33-5E73-4C15-9514-8AADADF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8A1-E7A8-4611-BC45-E88B7DDF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CF0-DE6A-4D46-ACA6-8C9045D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40A-9D1C-4868-BD5C-7CC2A49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BCB-4532-410E-A964-FC43E8C9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A36-523A-422C-82EF-9EBEF12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774-3F9F-4225-BB6B-A3ED5D9ED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5924-A8F3-4F76-BCEF-809A10167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ow Kitties  Fly Sout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Emi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380880"/>
            <a:ext cx="15922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a chilly  October night in kitty world.  There  was a kitten under the lea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utters began banging loudly.  Kate the cat flew south to stay warm.  Kate's jacket fell   the kitties flew to south because the dogs invaded kitty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1667160" cy="1838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1835280" cy="144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9000" y="5486400"/>
            <a:ext cx="1816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y came back they had dinner. The kitties had tuna stew and crab for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162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  strawberry pie for desse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830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9:28Z</dcterms:created>
  <dc:creator>student</dc:creator>
  <dc:description/>
  <dc:language>en-US</dc:language>
  <cp:lastModifiedBy>student</cp:lastModifiedBy>
  <dcterms:modified xsi:type="dcterms:W3CDTF">2010-10-28T17:54:50Z</dcterms:modified>
  <cp:revision>9</cp:revision>
  <dc:subject/>
  <dc:title>How Kittys  Fly To South</dc:title>
</cp:coreProperties>
</file>